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D1D518-6869-4E10-A387-730FEFB553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674ED2-8228-4C29-8A2F-9578668F78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4B96DA-FDE0-41BD-8CE3-1B30D2E57A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48FC5A-6E3A-4597-9744-75C62442B9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65D596-F75A-404B-B4CA-6839641485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3E7E92-745E-4169-93C4-A1FABDCB64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D8461F-7439-42CE-B894-E6AB2CF004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CECB13-961F-4030-8360-F318CD275A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6F06F3-1907-413B-8763-0C7516D9C9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5A2AB-ABDA-404F-AAB6-BBD6C1F668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F14CA8-8D37-4404-8C44-F5052CC144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38D110-B05F-44F0-96BB-D15808E652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969E6-0DC2-41DC-AF88-69883C8D68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youtube.com/watch?v=Fnh9q_cQcUE&amp;feature=player_embedded" TargetMode="External"/><Relationship Id="rId2" Type="http://schemas.openxmlformats.org/officeDocument/2006/relationships/hyperlink" Target="http://www.youtube.com/watch?v=Fnh9q_cQcUE&amp;feature=player_embedded" TargetMode="External"/><Relationship Id="rId3" Type="http://schemas.openxmlformats.org/officeDocument/2006/relationships/hyperlink" Target="http://www.youtube.com/watch?v=Fnh9q_cQcUE&amp;feature=player_embedded" TargetMode="External"/><Relationship Id="rId4" Type="http://schemas.openxmlformats.org/officeDocument/2006/relationships/hyperlink" Target="http://www.youtube.com/watch?v=Fnh9q_cQcUE&amp;feature=player_embedded" TargetMode="External"/><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serve.org/_downloads/REL/EdQuality/Benefit_Cards.doc"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serve.org/_downloads/REL/EdQuality/Step_1_Quotes_from_Experts.doc"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fessional Learning Communitie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ilding a Learning Tea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s involved?</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Professional Learning Team meetings you will . . .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 together on a regular basis throughout the school year, using a systematic, organized approach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cus collectively on teacher learning that leads to greater student learning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lore ways of increasing teacher knowledge and instructional expertise in a specific area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knowledge and expertise to design and develop materials, tools, and approaches for use with student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 feedback and recommendations about materials, tools, and approache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are information about learning team activities and results with the faculty, administration, and other interested group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will involve . . .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ganization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itment from all team member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llingness to help, support, and trust other team member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llingness to experiment and get outside traditional mindsets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CFaulkner-Beitze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am Roles</a:t>
            </a:r>
            <a:endParaRPr b="0" lang="en-US" sz="4400" spc="-1" strike="noStrike">
              <a:solidFill>
                <a:srgbClr val="000000"/>
              </a:solidFill>
              <a:latin typeface="Arial"/>
            </a:endParaRPr>
          </a:p>
        </p:txBody>
      </p:sp>
      <p:sp>
        <p:nvSpPr>
          <p:cNvPr id="64" name="PlaceHolder 2"/>
          <p:cNvSpPr>
            <a:spLocks noGrp="1"/>
          </p:cNvSpPr>
          <p:nvPr>
            <p:ph/>
          </p:nvPr>
        </p:nvSpPr>
        <p:spPr>
          <a:xfrm>
            <a:off x="456840" y="1599840"/>
            <a:ext cx="800100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ator: Key person to help move the agend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taker: Use a template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 Topic Decision Follow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t recorder: Records the group’s thinking, Captures key idea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 keeper: Reminds group as time draws to a close for each item</a:t>
            </a:r>
            <a:endParaRPr b="0" lang="en-US" sz="2400" spc="-1" strike="noStrike">
              <a:solidFill>
                <a:srgbClr val="000000"/>
              </a:solidFill>
              <a:latin typeface="Arial"/>
            </a:endParaRPr>
          </a:p>
        </p:txBody>
      </p:sp>
      <p:graphicFrame>
        <p:nvGraphicFramePr>
          <p:cNvPr id="65" name=""/>
          <p:cNvGraphicFramePr/>
          <p:nvPr/>
        </p:nvGraphicFramePr>
        <p:xfrm>
          <a:off x="990720" y="2666880"/>
          <a:ext cx="7314840" cy="685800"/>
        </p:xfrm>
        <a:graphic>
          <a:graphicData uri="http://schemas.openxmlformats.org/drawingml/2006/table">
            <a:tbl>
              <a:tblPr/>
              <a:tblGrid>
                <a:gridCol w="1828800"/>
                <a:gridCol w="1828440"/>
                <a:gridCol w="1828800"/>
                <a:gridCol w="1828800"/>
              </a:tblGrid>
              <a:tr h="6858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i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is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up</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4" name="PlaceHolder 3"/>
          <p:cNvSpPr>
            <a:spLocks noGrp="1"/>
          </p:cNvSpPr>
          <p:nvPr>
            <p:ph type="ftr" idx="2"/>
          </p:nvPr>
        </p:nvSpPr>
        <p:spPr/>
        <p:txBody>
          <a:bodyPr/>
          <a:p>
            <a:r>
              <a:t>CFaulkner-Beitze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uctures and Procedures</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ablish nor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aborative planning/meeting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enda, Discussion, Log/Notebook</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of data</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CFaulkner-Beitzel</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king Lot – place worries, concerns here for later discus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previous discussions/pl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new instructional issu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 for research, action pla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fessional develop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sues/concerns (parking lot)</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Faulkner-Beitzel</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ussion</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CFaulkner-Beitzel</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Keep Written Records: Logs </a:t>
            </a:r>
            <a:br>
              <a:rPr sz="4000"/>
            </a:br>
            <a:endParaRPr b="0" lang="en-US" sz="40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uring Professional Learning Team meetings team members will study, brainstorm, make decisions, take action, evaluate, reflect, and revise instructional practices. Keeping a written record of this process is important for a number of reason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Logs chronicle the progress of your team – your struggles and your successes. More important, they provide a record of what you learn, the changes you make that result in improved teaching, and the process by which you got there.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Logs provide documentation for purposes such as obtaining professional development credit. They can also be used as evidence for your personal professional development plan and your professional evaluation.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Logs may provide information for a case study or an action research project. Or, they can also become important data for evaluating the effectiveness of Professional Learning Teams in your school.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Learning logs provide wonderful vehicles through which teams can share ideas and practices with the larger school community, and logs can serve as road maps for future teams. The logs may be displayed in a “public” place such as a teacher workroom to get input from other teams and teacher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The logs can help your team stay on track by recording where you’ve already been. </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CFaulkner-Beitzel</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Keep Written Records: Notebook </a:t>
            </a:r>
            <a:endParaRPr b="0" lang="en-US" sz="40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r team will need a notebook in which to keep a variety of information on your Professional Learning Team. The following items may be kept in your team notebook. Prepare a separate tab for each set of items you include. The following information may be included in your notebook: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am members,</a:t>
            </a:r>
            <a:r>
              <a:rPr b="0" lang="en-US" sz="1400" spc="-1" strike="noStrike">
                <a:solidFill>
                  <a:srgbClr val="000000"/>
                </a:solidFill>
                <a:latin typeface="Arial"/>
              </a:rPr>
              <a:t> including names and contact information.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am calendar</a:t>
            </a:r>
            <a:r>
              <a:rPr b="0" lang="en-US" sz="1400" spc="-1" strike="noStrike">
                <a:solidFill>
                  <a:srgbClr val="000000"/>
                </a:solidFill>
                <a:latin typeface="Arial"/>
              </a:rPr>
              <a:t> with Professional Learning Team meeting times, key dates, and holidays marked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am norms</a:t>
            </a:r>
            <a:r>
              <a:rPr b="0" lang="en-US" sz="1400" spc="-1" strike="noStrike">
                <a:solidFill>
                  <a:srgbClr val="000000"/>
                </a:solidFill>
                <a:latin typeface="Arial"/>
              </a:rPr>
              <a:t> agreed on by team members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arning Plan</a:t>
            </a:r>
            <a:r>
              <a:rPr b="0" lang="en-US" sz="1400" spc="-1" strike="noStrike">
                <a:solidFill>
                  <a:srgbClr val="000000"/>
                </a:solidFill>
                <a:latin typeface="Arial"/>
              </a:rPr>
              <a:t> and any learning plan revisions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am logs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am work.</a:t>
            </a:r>
            <a:r>
              <a:rPr b="0" lang="en-US" sz="1400" spc="-1" strike="noStrike">
                <a:solidFill>
                  <a:srgbClr val="000000"/>
                </a:solidFill>
                <a:latin typeface="Arial"/>
              </a:rPr>
              <a:t> In this section include copies of effective lessons and new strategies developed and/or used to accomplish your team goal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am progress. </a:t>
            </a:r>
            <a:r>
              <a:rPr b="0" lang="en-US" sz="1400" spc="-1" strike="noStrike">
                <a:solidFill>
                  <a:srgbClr val="000000"/>
                </a:solidFill>
                <a:latin typeface="Arial"/>
              </a:rPr>
              <a:t>Include results, data, and evidence of progress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ources.</a:t>
            </a:r>
            <a:r>
              <a:rPr b="0" lang="en-US" sz="1400" spc="-1" strike="noStrike">
                <a:solidFill>
                  <a:srgbClr val="000000"/>
                </a:solidFill>
                <a:latin typeface="Arial"/>
              </a:rPr>
              <a:t> Keep a list of resources needed (add to this list during meetings as needs arise).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ining materials. </a:t>
            </a:r>
            <a:r>
              <a:rPr b="0" lang="en-US" sz="1400" spc="-1" strike="noStrike">
                <a:solidFill>
                  <a:srgbClr val="000000"/>
                </a:solidFill>
                <a:latin typeface="Arial"/>
              </a:rPr>
              <a:t>Keep a copy of learning team procedures and handouts from training sessions for reference.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ticles</a:t>
            </a:r>
            <a:r>
              <a:rPr b="0" lang="en-US" sz="1400" spc="-1" strike="noStrike">
                <a:solidFill>
                  <a:srgbClr val="000000"/>
                </a:solidFill>
                <a:latin typeface="Arial"/>
              </a:rPr>
              <a:t> and other print resources related to your Professional Learning Team work (Note: If you begin to collect a number of articles and information pertaining to your team's learning goal, you may want to move those items to a separate notebook.)</a:t>
            </a:r>
            <a:br>
              <a:rPr sz="1400"/>
            </a:br>
            <a:r>
              <a:rPr b="0" lang="en-US" sz="1400" spc="-1" strike="noStrike">
                <a:solidFill>
                  <a:srgbClr val="000000"/>
                </a:solidFill>
                <a:latin typeface="Arial"/>
              </a:rPr>
              <a:t>Decide where your team will keep the notebook. If possible, this should be a location where team members, the principal, a facilitator, and others could access it without disrupting a class. </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CFaulkner-Beitzel</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ecisions, Decisions!</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resources will each team need to start with?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m notebook (3-ring binder)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tabs for the notebook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m calendar for the school year, with holidays and important dates marked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t paper and marker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rning log forms (one for each learning team meeting, unless teams will use computers or another means of documenting meetings.)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about the learning team process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relating to the student need(s) the team will address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CFaulkner-Beitzel</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am Expectations</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cessful team members exhibi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itment to the team and its goal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tual respect and understanding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ingness to help, support, and trust one another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gial participation that creates a comfortable atmosphere for sharing both successes and failure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lerance for discussion, debate, and disagreemen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ingness to question, get outside current mindsets, and be open to new ideas and solutions.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CFaulkner-Beitzel</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ree Types of Data</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tcome: Formal assessments, End of chapter tests, Semester or end of trimester exams (Teacher-made tests, Portfolios, Standardized tests, Projects, Report card analysi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 Type/quality of instruction, Things/initiatives school has done to increase student achievement, Teachers share their practi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ographic: Ethnic groups, Gender, Economic levels, Language</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Faulkner-Beitze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ssion Outcome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 why PLC is an important attribute t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ic change mode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the framework of a PL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tilize protocols to analyze data and results fo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ntinuous improve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gnize that PLC is a process with a focu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n learning.</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Faulkner-Beitzel</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Reflection</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rces of data we examined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caught our attention?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encouraged us the mos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concerned us the mos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 this data raised for u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lications for what our learning teams should address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CFaulkner-Beitzel</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tting Goals</a:t>
            </a:r>
            <a:endParaRPr b="0" lang="en-US" sz="4400" spc="-1" strike="noStrike">
              <a:solidFill>
                <a:srgbClr val="000000"/>
              </a:solidFill>
              <a:latin typeface="Arial"/>
            </a:endParaRPr>
          </a:p>
        </p:txBody>
      </p:sp>
      <p:pic>
        <p:nvPicPr>
          <p:cNvPr id="85" name="" descr=""/>
          <p:cNvPicPr/>
          <p:nvPr/>
        </p:nvPicPr>
        <p:blipFill>
          <a:blip r:embed="rId1"/>
          <a:stretch/>
        </p:blipFill>
        <p:spPr>
          <a:xfrm>
            <a:off x="990720" y="1752480"/>
            <a:ext cx="7029360" cy="3861000"/>
          </a:xfrm>
          <a:prstGeom prst="rect">
            <a:avLst/>
          </a:prstGeom>
          <a:ln w="0">
            <a:noFill/>
          </a:ln>
        </p:spPr>
      </p:pic>
      <p:sp>
        <p:nvSpPr>
          <p:cNvPr id="3" name="PlaceHolder 2"/>
          <p:cNvSpPr>
            <a:spLocks noGrp="1"/>
          </p:cNvSpPr>
          <p:nvPr>
            <p:ph type="ftr" idx="2"/>
          </p:nvPr>
        </p:nvSpPr>
        <p:spPr/>
        <p:txBody>
          <a:bodyPr/>
          <a:p>
            <a:r>
              <a:t>CFaulkner-Beitze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professions work as teams?</a:t>
            </a:r>
            <a:endParaRPr b="0" lang="en-US" sz="4000" spc="-1" strike="noStrike">
              <a:solidFill>
                <a:srgbClr val="000000"/>
              </a:solidFill>
              <a:latin typeface="Arial"/>
            </a:endParaRPr>
          </a:p>
        </p:txBody>
      </p:sp>
      <p:sp>
        <p:nvSpPr>
          <p:cNvPr id="46" name="PlaceHolder 2"/>
          <p:cNvSpPr>
            <a:spLocks noGrp="1"/>
          </p:cNvSpPr>
          <p:nvPr>
            <p:ph/>
          </p:nvPr>
        </p:nvSpPr>
        <p:spPr>
          <a:xfrm>
            <a:off x="457200" y="1599840"/>
            <a:ext cx="8229600" cy="685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would you prefer to be?</a:t>
            </a:r>
            <a:endParaRPr b="0" lang="en-US" sz="3200" spc="-1" strike="noStrike">
              <a:solidFill>
                <a:srgbClr val="000000"/>
              </a:solidFill>
              <a:latin typeface="Arial"/>
            </a:endParaRPr>
          </a:p>
        </p:txBody>
      </p:sp>
      <p:pic>
        <p:nvPicPr>
          <p:cNvPr id="47" name="" descr=""/>
          <p:cNvPicPr/>
          <p:nvPr/>
        </p:nvPicPr>
        <p:blipFill>
          <a:blip r:embed="rId1"/>
          <a:stretch/>
        </p:blipFill>
        <p:spPr>
          <a:xfrm>
            <a:off x="762120" y="2971800"/>
            <a:ext cx="3047760" cy="2114640"/>
          </a:xfrm>
          <a:prstGeom prst="rect">
            <a:avLst/>
          </a:prstGeom>
          <a:ln w="0">
            <a:noFill/>
          </a:ln>
        </p:spPr>
      </p:pic>
      <p:pic>
        <p:nvPicPr>
          <p:cNvPr id="48" name="" descr=""/>
          <p:cNvPicPr/>
          <p:nvPr/>
        </p:nvPicPr>
        <p:blipFill>
          <a:blip r:embed="rId2"/>
          <a:stretch/>
        </p:blipFill>
        <p:spPr>
          <a:xfrm>
            <a:off x="5029200" y="2819520"/>
            <a:ext cx="3048120" cy="2257200"/>
          </a:xfrm>
          <a:prstGeom prst="rect">
            <a:avLst/>
          </a:prstGeom>
          <a:ln w="0">
            <a:noFill/>
          </a:ln>
        </p:spPr>
      </p:pic>
      <p:sp>
        <p:nvSpPr>
          <p:cNvPr id="4" name="PlaceHolder 3"/>
          <p:cNvSpPr>
            <a:spLocks noGrp="1"/>
          </p:cNvSpPr>
          <p:nvPr>
            <p:ph type="ftr" idx="2"/>
          </p:nvPr>
        </p:nvSpPr>
        <p:spPr/>
        <p:txBody>
          <a:bodyPr/>
          <a:p>
            <a:r>
              <a:t>CFaulkner-Beitze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 name="PlaceHolder 2"/>
          <p:cNvSpPr>
            <a:spLocks noGrp="1"/>
          </p:cNvSpPr>
          <p:nvPr>
            <p:ph/>
          </p:nvPr>
        </p:nvSpPr>
        <p:spPr>
          <a:xfrm>
            <a:off x="30492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youtube.com/watch?v</a:t>
            </a:r>
            <a:r>
              <a:rPr b="0" lang="en-US" sz="2400" spc="-1" strike="noStrike" u="sng">
                <a:solidFill>
                  <a:srgbClr val="009999"/>
                </a:solidFill>
                <a:uFillTx/>
                <a:latin typeface="Arial"/>
                <a:hlinkClick r:id="rId3"/>
              </a:rPr>
              <a:t>=Fnh9q_cQcUE&amp;feature=</a:t>
            </a:r>
            <a:r>
              <a:rPr b="0" lang="en-US" sz="2400" spc="-1" strike="noStrike" u="sng">
                <a:solidFill>
                  <a:srgbClr val="009999"/>
                </a:solidFill>
                <a:uFillTx/>
                <a:latin typeface="Arial"/>
                <a:hlinkClick r:id="rId4"/>
              </a:rPr>
              <a:t>player_embedd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CFaulkner-Beitze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uFour</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we want each student to lear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ill we know when each student has learned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ill we respond when a student experiences difficulty in learning?</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CFaulkner-Beitze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are the benefit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ity</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Are the Benefits? </a:t>
            </a:r>
            <a:r>
              <a:rPr b="0" lang="en-US" sz="1800" spc="-1" strike="noStrike">
                <a:solidFill>
                  <a:srgbClr val="000000"/>
                </a:solidFill>
                <a:latin typeface="Arial"/>
              </a:rPr>
              <a:t>Purpose: Use this activity to help teachers reflect on the benefits of working together in Professional Learning Teams. </a:t>
            </a:r>
            <a:r>
              <a:rPr b="1" lang="en-US" sz="1800" spc="-1" strike="noStrike">
                <a:solidFill>
                  <a:srgbClr val="000000"/>
                </a:solidFill>
                <a:latin typeface="Arial"/>
              </a:rPr>
              <a:t>Description:</a:t>
            </a:r>
            <a:r>
              <a:rPr b="0" lang="en-US" sz="1800" spc="-1" strike="noStrike">
                <a:solidFill>
                  <a:srgbClr val="000000"/>
                </a:solidFill>
                <a:latin typeface="Arial"/>
              </a:rPr>
              <a:t> This activity contains ten </a:t>
            </a:r>
            <a:r>
              <a:rPr b="0" lang="en-US" sz="1800" spc="-1" strike="noStrike" u="sng">
                <a:solidFill>
                  <a:srgbClr val="009999"/>
                </a:solidFill>
                <a:uFillTx/>
                <a:latin typeface="Arial"/>
                <a:hlinkClick r:id="rId1"/>
              </a:rPr>
              <a:t>Benefits Cards</a:t>
            </a:r>
            <a:r>
              <a:rPr b="0" lang="en-US" sz="1800" spc="-1" strike="noStrike" u="sng">
                <a:solidFill>
                  <a:srgbClr val="000000"/>
                </a:solidFill>
                <a:uFillTx/>
                <a:latin typeface="Arial"/>
              </a:rPr>
              <a:t>, each of which describes a benefit of teacher collaboration. Each card includes a statement of a benefit, a brief explanation, and a pertinent quote from a respected expert. </a:t>
            </a:r>
            <a:r>
              <a:rPr b="1" lang="en-US" sz="1800" spc="-1" strike="noStrike">
                <a:solidFill>
                  <a:srgbClr val="000000"/>
                </a:solidFill>
                <a:latin typeface="Arial"/>
              </a:rPr>
              <a:t>Procedur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t the cards apart and distribute them among teacher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teachers time read and reflect on their Benefits Card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ite teachers to briefly share the information on their cards with the group, using their own word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all Benefit Cards have been shared, ask each teacher to write down three benefits that he or she thinks are especially important. This will help teachers process and prioritize this information.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ggest that teachers share their three top benefits with their table group and explain why they chose these three. If teachers are not at tables, ask volunteers to share with the whole group.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CFaulkner-Beitze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 the experts say?</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ity</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rpose: Use this activity to provide teachers with additional evidence that teacher collaboration is a researched and effective process for building teacher expertise.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ption:</a:t>
            </a:r>
            <a:r>
              <a:rPr b="0" lang="en-US" sz="1600" spc="-1" strike="noStrike">
                <a:solidFill>
                  <a:srgbClr val="000000"/>
                </a:solidFill>
                <a:latin typeface="Arial"/>
              </a:rPr>
              <a:t> This activity offers a series of thought-provoking </a:t>
            </a:r>
            <a:r>
              <a:rPr b="0" lang="en-US" sz="1600" spc="-1" strike="noStrike" u="sng">
                <a:solidFill>
                  <a:srgbClr val="009999"/>
                </a:solidFill>
                <a:uFillTx/>
                <a:latin typeface="Arial"/>
                <a:hlinkClick r:id="rId1"/>
              </a:rPr>
              <a:t>quotes from experts </a:t>
            </a:r>
            <a:r>
              <a:rPr b="0" lang="en-US" sz="1600" spc="-1" strike="noStrike" u="sng">
                <a:solidFill>
                  <a:srgbClr val="000000"/>
                </a:solidFill>
                <a:uFillTx/>
                <a:latin typeface="Arial"/>
              </a:rPr>
              <a:t>on teaching quality and teacher collaboration. These can stimulate interest in engaging in a learning team proces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edure: </a:t>
            </a:r>
            <a:r>
              <a:rPr b="0" lang="en-US" sz="1600" spc="-1" strike="noStrike">
                <a:solidFill>
                  <a:srgbClr val="000000"/>
                </a:solidFill>
                <a:latin typeface="Arial"/>
              </a:rPr>
              <a:t>Invite teachers to explore these quotes in more depth by using a read-and-share strategy (see below). Or, transform these quotes into a series of posters and display them in team meeting areas to help keep the importance of what teams are doing on the front burner.</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ad and share</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e enough copies of the quotes for each team of 3–4 teachers to have one. Cut the quotes apar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tribute the quotes so that each team of teachers has a complete se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k teachers in each team to select and read a quote, summarize the main idea, and to share that with others in their team. Invite teachers to discuss their ideas about each quote as it is discussed.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ive teams time to read and discuss the eight quotes.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CFaulkner-Beitze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evant Research</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s both inside and outside of education have concluded tha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ificant improvement in student achievement is characterized by a shared</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of collaborative teams actively engaged in continuous improvement based</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student learning results”</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Professional Learning Communities at Work</a:t>
            </a:r>
            <a:r>
              <a:rPr b="0" lang="en-US" sz="1200" spc="-1" strike="noStrike">
                <a:solidFill>
                  <a:srgbClr val="000000"/>
                </a:solidFill>
                <a:latin typeface="Arial"/>
              </a:rPr>
              <a:t>, DuFour &amp; Eaker (1998)</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e of the most powerful lessons learned is that those who make the mos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ess in becoming a professional learning community are those who tak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make mistakes, learn from their mistakes, and begin again mor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lligently”</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Whatever It Takes</a:t>
            </a:r>
            <a:r>
              <a:rPr b="0" lang="en-US" sz="1200" spc="-1" strike="noStrike">
                <a:solidFill>
                  <a:srgbClr val="000000"/>
                </a:solidFill>
                <a:latin typeface="Arial"/>
              </a:rPr>
              <a:t>, DuFour, DuFour, Eaker, &amp; Karhanek (2004)</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number of school systems have transformed their accountability system to</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positive and meaningful feedback to teachers, students and</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ors to showcase teacher professionalism as an integral part of</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ive accountability”</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Accountability for Learning</a:t>
            </a:r>
            <a:r>
              <a:rPr b="0" lang="en-US" sz="1200" spc="-1" strike="noStrike">
                <a:solidFill>
                  <a:srgbClr val="000000"/>
                </a:solidFill>
                <a:latin typeface="Arial"/>
              </a:rPr>
              <a:t>, Reeves (2004)</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a-analysis of 70 school leadership studies correlated effective use of 21</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ership responsibilities by the principal and leadership team to a 10% gain in</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achievemen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Balanced Leadership</a:t>
            </a:r>
            <a:r>
              <a:rPr b="0" lang="en-US" sz="1200" spc="-1" strike="noStrike">
                <a:solidFill>
                  <a:srgbClr val="000000"/>
                </a:solidFill>
                <a:latin typeface="Arial"/>
              </a:rPr>
              <a:t>, Waters, Marzano, &amp; McNulty (2003</a:t>
            </a:r>
            <a:r>
              <a:rPr b="1" lang="en-US" sz="1200" spc="-1" strike="noStrike">
                <a:solidFill>
                  <a:srgbClr val="000000"/>
                </a:solidFill>
                <a:latin typeface="Arial"/>
              </a:rPr>
              <a:t>)</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CFaulkner-Beitze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work together?</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growing body of knowledge points out that . . .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Teachers need to continually update their knowledge and skill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Teacher collaboration is the most effective method for doing this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CFaulkner-Beitze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05T21:34:24Z</dcterms:created>
  <dc:creator>Carolyn Beitzel</dc:creator>
  <dc:description/>
  <dc:language>en-US</dc:language>
  <cp:lastModifiedBy>Carolyn Beitzel</cp:lastModifiedBy>
  <dcterms:modified xsi:type="dcterms:W3CDTF">2009-08-05T22:36:21Z</dcterms:modified>
  <cp:revision>9</cp:revision>
  <dc:subject/>
  <dc:title>Professional Learning Communities </dc:title>
</cp:coreProperties>
</file>